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75ABEFF-EBBF-4E7C-B557-CC6130D7A6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edule course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imize the number of 6 and 7 rated classes offered at the same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imize classes within the same subject area offered at the same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ize sum of criteria met for values assigned to Course Evaluation, Class Size, Class Time, Expected Grade, Module, Number of Credits; weights value of priority by how well criteria was m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imize course selection penalties given preferences for: academic department, day and time, # credits, course rating and course difficul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ECEC-D5EB-4C98-B96B-81304285A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0E35-D3C7-468F-B699-2F7DBF583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2F8C-4065-4A5B-9405-6043B4562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B3C5-F983-4115-BDBF-2DA066451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C870C-F3D7-4D1C-BEFA-485594605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00A68-2E15-4C56-8217-E356F48A7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A8B2F-17A8-410B-8EBF-ECD57C2BB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8FCB9-AAFD-4664-AD2A-B5605C567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99347-E18C-4787-BC7F-2E1A288CD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38572-76F9-43FE-A351-D94410D4B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52859-06D4-4212-94CE-D156853F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4270-B08D-4B1B-A529-5BD75C06C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C39A4-CB8C-4E2E-A816-F1633258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9ABD1-D799-4B98-9E15-62586F57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25D0A-4816-44BC-9B84-2A502BCBF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6F9AF-CE71-44E4-89E5-D8EA1955E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EC301-C195-44A0-B3C6-81EC70043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FAAA-CD50-4AC8-BED8-52D6F5CA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A1DF-D0EB-4AB1-913E-C38070E6D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7D5A-4F3C-4ECB-BA32-970467D15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ECD8-E8D2-4C70-B0A8-0C1D882AE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E99A-90F1-4815-AAA7-7367D57D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B49D-3702-4056-87A6-BD8B8E0B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72AB-B34D-4FC4-94DA-E7A14E5D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133360" cy="6858000"/>
            <a:chOff x="0" y="0"/>
            <a:chExt cx="2133360" cy="6858000"/>
          </a:xfrm>
        </p:grpSpPr>
        <p:sp>
          <p:nvSpPr>
            <p:cNvPr id="1" name=""/>
            <p:cNvSpPr/>
            <p:nvPr/>
          </p:nvSpPr>
          <p:spPr>
            <a:xfrm>
              <a:off x="1584720" y="0"/>
              <a:ext cx="54864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711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16799-D781-414A-B8B7-941E627E801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893E5-7C5A-4A67-B9D0-AB57409CA3D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469880"/>
          </a:xfrm>
          <a:prstGeom prst="rect">
            <a:avLst/>
          </a:prstGeom>
          <a:solidFill>
            <a:srgbClr val="c58bf9">
              <a:alpha val="99000"/>
            </a:srgbClr>
          </a:solidFill>
          <a:ln w="31680">
            <a:solidFill>
              <a:srgbClr val="000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ring 2007 Full-Time MBA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rse Sele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362320" y="3807000"/>
            <a:ext cx="6400800" cy="1069920"/>
          </a:xfrm>
          <a:prstGeom prst="rect">
            <a:avLst/>
          </a:prstGeom>
          <a:solidFill>
            <a:srgbClr val="c58bf9"/>
          </a:solidFill>
          <a:ln w="31680">
            <a:solidFill>
              <a:srgbClr val="000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ice Colarus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issa Gilb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becca Web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c0039"/>
                </a:solidFill>
                <a:latin typeface="Arial"/>
              </a:rPr>
              <a:t>Model Input</a:t>
            </a:r>
            <a:endParaRPr b="1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133720" y="114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nalty Am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of 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iz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ess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-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di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,000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e Overla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2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Overla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,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057400" y="3236760"/>
            <a:ext cx="6781680" cy="301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c0039"/>
                </a:solidFill>
                <a:latin typeface="Arial"/>
              </a:rPr>
              <a:t>Model Output</a:t>
            </a:r>
            <a:endParaRPr b="1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86200" y="3429000"/>
            <a:ext cx="30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ver Class Sel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752480" y="4038480"/>
            <a:ext cx="7315200" cy="21751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438280" y="1066680"/>
            <a:ext cx="64008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7280" indent="-287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BA2 Spring 2007 Class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 cre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finance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essor Ju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es have CFE ratings above 5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classes scheduled for the mo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c0039"/>
                </a:solidFill>
                <a:latin typeface="Arial"/>
              </a:rPr>
              <a:t>Conclusion and Next Steps</a:t>
            </a:r>
            <a:endParaRPr b="1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gs to Improve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classes taken in previous semesters and add constraint to excl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expanding model to include all courses and be available to MBA1s and part-time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incorporating additional student pre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c0039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 From Past Scheduling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Coll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 &amp;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 of Model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c0039"/>
                </a:solidFill>
                <a:latin typeface="Arial"/>
              </a:rPr>
              <a:t>Project Overview</a:t>
            </a:r>
            <a:endParaRPr b="1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133360" y="2133720"/>
            <a:ext cx="37335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124 courses available in Spring 2007 to MBA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BA2s must choose their priorities carefully with only one semester left and so many classes to choose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7815" t="39081" r="73299" b="22710"/>
          <a:stretch/>
        </p:blipFill>
        <p:spPr>
          <a:xfrm>
            <a:off x="6400800" y="2514600"/>
            <a:ext cx="2209680" cy="33526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050200" y="1498680"/>
            <a:ext cx="695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iv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design a model to help MBA2s optimize the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t semester of cour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2057400"/>
            <a:ext cx="1447920" cy="762120"/>
          </a:xfrm>
          <a:prstGeom prst="wedgeRoundRectCallout">
            <a:avLst>
              <a:gd name="adj1" fmla="val 69736"/>
              <a:gd name="adj2" fmla="val 126041"/>
              <a:gd name="adj3" fmla="val 16667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many choice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057400" y="1579680"/>
            <a:ext cx="67816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ength of past proj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ed a variety of ways to optimize course selection by maximizing the sum of preferred criteria or minimize penalties based on student prefere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aknesses of past proj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s often included either too many decision variables, such as x criteria, or too few, such as x crite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, do students really want to input that many preferences?  What if one priority is more important than other priorities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r Goal: To design a model that focuses on a few most relevant decision variables for stud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38280" y="228600"/>
            <a:ext cx="6400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c0039"/>
                </a:solidFill>
                <a:latin typeface="Arial"/>
              </a:rPr>
              <a:t>Past Scheduling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19720" y="3962520"/>
            <a:ext cx="1295280" cy="609480"/>
          </a:xfrm>
          <a:prstGeom prst="downArrow">
            <a:avLst>
              <a:gd name="adj1" fmla="val 50000"/>
              <a:gd name="adj2" fmla="val 36875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11240" y="3962520"/>
            <a:ext cx="7232760" cy="26985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c0039"/>
                </a:solidFill>
                <a:latin typeface="Arial"/>
              </a:rPr>
              <a:t>Data Collection</a:t>
            </a:r>
            <a:endParaRPr b="1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133360" y="1143000"/>
            <a:ext cx="6933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inquired with Beth Rubin in the Registrar’s office for data on Spring 2007 course offerings and received the following data, which includ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se # &amp;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Cred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y of the week &amp;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se &amp; Professor R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c0039"/>
                </a:solidFill>
                <a:latin typeface="Arial"/>
              </a:rPr>
              <a:t>Objective Function</a:t>
            </a:r>
            <a:endParaRPr b="1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133720" y="1600200"/>
            <a:ext cx="6705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Objective Func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nimize the penalties based on the following student p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Cre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FE Ra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es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of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dule Overl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Overl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c0039"/>
                </a:solidFill>
                <a:latin typeface="Arial"/>
              </a:rPr>
              <a:t>Constraints</a:t>
            </a:r>
            <a:endParaRPr b="1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438280" y="1219320"/>
            <a:ext cx="64008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he decision variables need to be between zero and o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 be whole integ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credits taken must be greater than 11 and less than 1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362320" y="4876920"/>
            <a:ext cx="64008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ocus was on penalties rather than constraints.  By using evolutionary solver, we were able to arrive at the optimal solution to minimize penalties given a student’s prior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00600" y="396252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c0039"/>
                </a:solidFill>
                <a:latin typeface="Arial"/>
              </a:rPr>
              <a:t>Model Overview</a:t>
            </a:r>
            <a:endParaRPr b="1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133720" y="1219320"/>
            <a:ext cx="6705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 selects preferences from drop down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209680" y="1724040"/>
            <a:ext cx="6334200" cy="490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c0039"/>
                </a:solidFill>
                <a:latin typeface="Arial"/>
              </a:rPr>
              <a:t>Model Input</a:t>
            </a:r>
            <a:endParaRPr b="1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6572160" cy="14349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657600" y="1066680"/>
            <a:ext cx="331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&amp; Decision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86200" y="327672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ver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rcRect l="27343" t="25004" r="27343" b="41670"/>
          <a:stretch/>
        </p:blipFill>
        <p:spPr>
          <a:xfrm>
            <a:off x="2971800" y="3778200"/>
            <a:ext cx="5029200" cy="2774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1T21:13:14Z</dcterms:created>
  <dc:creator>Alice Colarusso</dc:creator>
  <dc:description/>
  <dc:language>en-US</dc:language>
  <cp:lastModifiedBy>Marissa Gilbert</cp:lastModifiedBy>
  <dcterms:modified xsi:type="dcterms:W3CDTF">2006-12-11T17:40:51Z</dcterms:modified>
  <cp:revision>45</cp:revision>
  <dc:subject/>
  <dc:title>Spring 2007 Full-Time MBA  Course Selection</dc:title>
</cp:coreProperties>
</file>